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2E4-308D-4834-8378-2090F078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1E9-D279-400A-B7F4-207171F3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6DA-D83C-4179-8A8D-A33022D3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EB7-1FA4-480F-9F88-63A2084F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6B38-250A-4412-8A68-78F5EE35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7EDA-3467-4DC7-A9F5-B4FC8432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FCA7-AFF5-41F1-886D-1EEAC9A6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1BA1-CEEB-4205-A8D5-5D9268D7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D376-2D90-411D-B018-C933F5FF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5C0C-B1D1-43C7-AC48-A49961A0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A746-C46E-4496-882E-79F5D6E5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531-0A0B-4988-9F40-C2E7290E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B243-4C3A-4B0B-AC4B-7AE799A0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9C27-4525-42CF-A683-CA9FFE3B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232F-8676-4581-8AC3-8F583228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4B22-D7AE-4500-8C88-F301080D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50F6-1112-4655-BFA4-8E65DB99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103-E2B5-49D0-8E78-E153A2E3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D92-D81B-4757-B78B-899B3DA2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5D3-CA54-466D-B552-A18CD867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1C5-E59C-4E61-AC64-113A35FC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88C-FAA2-42AA-B664-A0B6AB61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EF0-3804-42CF-9468-01B6ED37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5B3-0D2D-4DD9-B015-91E6DBEC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2048-CC76-45E9-B13D-93B3807BC97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C799-59D6-4B78-A813-E095E16025B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Mi Mansi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  <a:ea typeface="Arial"/>
              </a:rPr>
              <a:t>ó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Evan Morris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676520" y="2562120"/>
            <a:ext cx="60195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El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caro garaj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62120" y="2454120"/>
            <a:ext cx="65624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Mi Tipo de ca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tipo de casa es una mansi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  <a:ea typeface="Arial"/>
              </a:rPr>
              <a:t>ó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3880" y="2562120"/>
            <a:ext cx="60199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Mi Co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ta es mi cocina impresionan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Mi comedor!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mi comedor grande en mi mansió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4876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1f08"/>
                </a:solidFill>
                <a:latin typeface="Arial Black"/>
              </a:rPr>
              <a:t>Sala!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rico sala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800" y="2433600"/>
            <a:ext cx="76960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El baño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fresco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añ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438280" y="2490840"/>
            <a:ext cx="43815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favorito cuarto en la mansió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436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Mi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and pat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a yard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magnífic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yard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066680" y="2492280"/>
            <a:ext cx="655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7:37Z</dcterms:created>
  <dc:creator>morrisoneva</dc:creator>
  <dc:description/>
  <dc:language>en-US</dc:language>
  <cp:lastModifiedBy>morrisoneva</cp:lastModifiedBy>
  <dcterms:modified xsi:type="dcterms:W3CDTF">2013-04-04T15:22:24Z</dcterms:modified>
  <cp:revision>4</cp:revision>
  <dc:subject/>
  <dc:title>Mi Mansion</dc:title>
</cp:coreProperties>
</file>